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579-D4FF-4980-93B3-8D44CEE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6BC-5AC0-4F86-849F-05B634D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9D6-90ED-43F3-97F9-3396626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256-4816-4A01-832E-18BD56E2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7B8-FDDA-4585-A2E1-3DAB28F1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F6BF-91BC-439C-8891-C0157E0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788A-5BFB-4A2B-89A6-8B91CC8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597-45C8-4EF5-BE30-00FF8041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C2D7-87ED-4FFB-B749-0B89C674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1EBC-381A-48DD-A247-1704310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D81-F71A-4616-B5D3-211091F5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49A-9430-49E2-80CD-AB15F20E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FF1-64B4-4676-8C5B-C91238E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083-0C4C-4194-824F-0BB59DE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8BF4-ACCE-46DD-A74D-E086E86C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9D1-2905-4CCD-8FA2-66CB23EF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541D-62A4-42C5-98A0-E0C0D341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C7E-6669-4C2A-B00F-53F4938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E36-2B85-4643-810F-39B6E8A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B93-27F9-47B9-9FA6-30DB4A2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814-9D54-4BE6-874A-AE803F4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A40-6B71-42BF-BC45-0A119C7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6C4-DF5D-45E3-AEAE-5868B69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8F8-FBE8-4F72-ADA8-DC8B2B9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2757-0CF1-4292-83D0-6691A3A6D1FF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23E-D695-4226-8E80-69DB27A3FE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EEA-2CB9-45EA-875B-D21F47D2F9F1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8A8-EB39-4713-A95B-7FA2A589B0E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fe"/>
                </a:solidFill>
                <a:latin typeface="Verdana"/>
                <a:ea typeface="Times New Roman"/>
              </a:rPr>
              <a:t>DIAGRAMMA DEL FLUSSO OPERATIVO DI VALUTAZIONE DEL RISCH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685800"/>
            <a:ext cx="3200400" cy="762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80"/>
                </a:solidFill>
                <a:latin typeface="Verdana"/>
              </a:rPr>
              <a:t>Valutare il paziente secondo la scala di Norton Plus utilizzando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80"/>
                </a:solidFill>
                <a:latin typeface="Verdana"/>
              </a:rPr>
              <a:t>scheda 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26668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205740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s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9810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74320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1752480"/>
            <a:ext cx="1486080" cy="914400"/>
          </a:xfrm>
          <a:prstGeom prst="flowChartDecision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80"/>
                </a:solidFill>
                <a:latin typeface="Verdana"/>
              </a:rPr>
              <a:t>Paziente a rischi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2590920"/>
            <a:ext cx="1257120" cy="685800"/>
          </a:xfrm>
          <a:prstGeom prst="flowChartDecision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80"/>
                </a:solidFill>
                <a:latin typeface="Verdana"/>
              </a:rPr>
              <a:t>lesio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666880"/>
            <a:ext cx="1371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mpilare il </a:t>
            </a:r>
            <a:r>
              <a:rPr b="1" lang="it-IT" sz="1000" spc="-1" strike="noStrike">
                <a:solidFill>
                  <a:srgbClr val="000080"/>
                </a:solidFill>
                <a:latin typeface="Verdana"/>
              </a:rPr>
              <a:t>fronte</a:t>
            </a: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 della Scheda n°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nservare la Scheda n°1 nella documentazione sanit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505320"/>
            <a:ext cx="1828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Adottare il protocollo di preven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mpilare </a:t>
            </a:r>
            <a:r>
              <a:rPr b="1" lang="it-IT" sz="1000" spc="-1" strike="noStrike">
                <a:solidFill>
                  <a:srgbClr val="000080"/>
                </a:solidFill>
                <a:latin typeface="Verdana"/>
              </a:rPr>
              <a:t>fronte e retro</a:t>
            </a: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 della Scheda n°1. Se necessario, anche la Scheda n°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nservare le Schede nella documentazione sanit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3429000"/>
            <a:ext cx="1600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Adottare il protocollo di preven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Adottare il protocollo di tratt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mpilare fronte e retro della Scheda n°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mpilare la Scheda n°2 e n°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80"/>
                </a:solidFill>
                <a:latin typeface="Verdana"/>
              </a:rPr>
              <a:t>-Conservare le Schede n°1,2,3 nella documentazione sanit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3200400" cy="91440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80"/>
                </a:solidFill>
                <a:latin typeface="Verdana"/>
              </a:rPr>
              <a:t>Rivalutare il rischio secondo le indicazioni del punto 2.5 b e ripercorrere il flu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019560" y="990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66680" y="1066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66680" y="6324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2485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324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839080" y="990720"/>
            <a:ext cx="0" cy="53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05740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2884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dice Barbara Anno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1BA-E61A-478A-8AF7-3C0BB16A922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E3BF9-A061-4769-97DA-43B3A3993AF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dice</cp:lastModifiedBy>
  <dcterms:modified xsi:type="dcterms:W3CDTF">2010-04-09T09:59:41Z</dcterms:modified>
  <cp:revision>5</cp:revision>
  <dc:subject/>
  <dc:title>Presentazione di PowerPoint</dc:title>
</cp:coreProperties>
</file>